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C110-6BA2-433B-89CB-22177954A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B9CF-FA72-4B75-B22D-E5008A7FC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A852-09C3-4DCA-A069-CBF2F82A2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9CB4-299E-4486-87C9-956E4DC6A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E729C-01B0-4E10-92AA-05B932DC1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8A664-4E54-4C98-860B-B3342A5A0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2EE57-1F7A-4B9A-9F86-C5048EE70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228B5-14A6-47DB-8C02-54EC1FF22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12D84-4075-4E84-9BD3-4833054BC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2CC2F-64C7-49EC-91F6-B32BBD94D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548F8-94F5-4BBF-A4DF-884342AF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2671-1DF2-4275-9CD3-8B17913D1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2D1DE-EDC9-4F5D-A9B5-3C763E27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25E18-B79F-49B5-ADE9-4C1BDEC9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075F0-6ABB-4F10-8FCB-637ACD21C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9131D-45DA-4716-BE5A-78A39A22A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8FB3F-1FEE-45FE-AA28-63F530CCD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5C8D-E107-4A1F-AA49-4612BF24E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D414-B1A4-49DC-8DC5-2679EEB5E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7F09-C57E-4CDF-B676-93D5AD971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EFDE-8E78-4567-8A58-0317D1349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0FFC-2F16-43EB-9A58-17E82859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AFD3-8E3F-4794-9C0E-F42D1A3B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A542-8FFD-4A7C-9284-88C02AA0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c7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8c7e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c7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c7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8c7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c7ea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7525B-7882-4F9F-9F3F-7BABC2EAA4FD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c7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8c7e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c7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3333cc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c7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8c7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c7ea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9FB94-D4DE-464D-A48C-563C57DB1175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12.xml"/><Relationship Id="rId3" Type="http://schemas.openxmlformats.org/officeDocument/2006/relationships/slide" Target="slide12.xml"/><Relationship Id="rId4" Type="http://schemas.openxmlformats.org/officeDocument/2006/relationships/image" Target="../media/image5.png"/><Relationship Id="rId5" Type="http://schemas.openxmlformats.org/officeDocument/2006/relationships/slide" Target="slide13.xml"/><Relationship Id="rId6" Type="http://schemas.openxmlformats.org/officeDocument/2006/relationships/image" Target="../media/image5.png"/><Relationship Id="rId7" Type="http://schemas.openxmlformats.org/officeDocument/2006/relationships/slide" Target="slide14.xml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c7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6094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МОУ СОШ №1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828800" y="1905120"/>
            <a:ext cx="60199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66ff"/>
                  </a:solidFill>
                  <a:miter/>
                </a:ln>
                <a:solidFill>
                  <a:srgbClr val="5e93c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Химия в быту</a:t>
            </a:r>
            <a:endParaRPr b="0" lang="en-US" sz="1800" spc="1" strike="noStrike">
              <a:ln w="12600">
                <a:solidFill>
                  <a:srgbClr val="3366ff"/>
                </a:solidFill>
                <a:miter/>
              </a:ln>
              <a:solidFill>
                <a:srgbClr val="5e93c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286000" y="3505320"/>
            <a:ext cx="7010280" cy="1815840"/>
            <a:chOff x="2286000" y="3505320"/>
            <a:chExt cx="7010280" cy="1815840"/>
          </a:xfrm>
        </p:grpSpPr>
        <p:sp>
          <p:nvSpPr>
            <p:cNvPr id="113" name=""/>
            <p:cNvSpPr/>
            <p:nvPr/>
          </p:nvSpPr>
          <p:spPr>
            <a:xfrm>
              <a:off x="5029200" y="4038480"/>
              <a:ext cx="365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99"/>
                  </a:solidFill>
                  <a:latin typeface="Tahoma"/>
                </a:rPr>
                <a:t>Якобсон Марин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105520" y="3505320"/>
              <a:ext cx="3733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99"/>
                  </a:solidFill>
                  <a:latin typeface="Tahoma"/>
                </a:rPr>
                <a:t>Андреева Елен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81280" y="350532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 u="sng">
                  <a:solidFill>
                    <a:srgbClr val="000099"/>
                  </a:solidFill>
                  <a:uFillTx/>
                  <a:latin typeface="Tahoma"/>
                </a:rPr>
                <a:t>Авторы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286000" y="4800600"/>
              <a:ext cx="358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 u="sng">
                  <a:solidFill>
                    <a:srgbClr val="000099"/>
                  </a:solidFill>
                  <a:uFillTx/>
                  <a:latin typeface="Tahoma"/>
                </a:rPr>
                <a:t>Преподаватель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029200" y="4800600"/>
              <a:ext cx="426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99"/>
                  </a:solidFill>
                  <a:latin typeface="Tahoma"/>
                </a:rPr>
                <a:t>Горяйнова Т.М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0" y="6095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Новосибирск 2007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c7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Средства </a:t>
            </a:r>
            <a:br>
              <a:rPr sz="4400"/>
            </a:b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гигиены и косметики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«Гигиена» происходит от греч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ygieinos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«целебный, приносящий здоровье»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«Косметика»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 греч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osmetike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«искусство украшать себя»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0" y="3276720"/>
            <a:ext cx="4572000" cy="338580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73"/>
                </a:solidFill>
                <a:latin typeface="Tahoma"/>
              </a:rPr>
              <a:t>Косметика и гигиена тесно соприкасаются, так как имеются косметические средства, которые выполняют и гигиеническую функцию (лосьоны, кремы, шампуни, гели для душа и д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934320" y="4419720"/>
            <a:ext cx="2209680" cy="17859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0" y="4419720"/>
            <a:ext cx="2209680" cy="14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c7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838080" y="914400"/>
            <a:ext cx="8534520" cy="55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buSzPct val="1028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3333cc"/>
                </a:solidFill>
                <a:uFillTx/>
                <a:latin typeface="Tahoma"/>
                <a:hlinkClick r:id="rId2" action="ppaction://hlinksldjump"/>
              </a:rPr>
              <a:t> </a:t>
            </a:r>
            <a:r>
              <a:rPr b="0" lang="en-US" sz="4800" spc="-1" strike="noStrike" u="sng">
                <a:solidFill>
                  <a:srgbClr val="3333cc"/>
                </a:solidFill>
                <a:uFillTx/>
                <a:latin typeface="Tahoma"/>
                <a:hlinkClick r:id="rId3" action="ppaction://hlinksldjump"/>
              </a:rPr>
              <a:t>Средства ухода за зубам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SzPct val="1028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521ab"/>
                </a:solidFill>
                <a:latin typeface="Tahoma"/>
              </a:rPr>
              <a:t> </a:t>
            </a:r>
            <a:r>
              <a:rPr b="0" lang="en-US" sz="4800" spc="-1" strike="noStrike" u="sng">
                <a:solidFill>
                  <a:srgbClr val="3333cc"/>
                </a:solidFill>
                <a:uFillTx/>
                <a:latin typeface="Tahoma"/>
                <a:hlinkClick r:id="rId5" action="ppaction://hlinksldjump"/>
              </a:rPr>
              <a:t>Дезодорант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SzPct val="1028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521ab"/>
                </a:solidFill>
                <a:latin typeface="Tahoma"/>
              </a:rPr>
              <a:t> </a:t>
            </a:r>
            <a:r>
              <a:rPr b="0" lang="en-US" sz="4800" spc="-1" strike="noStrike" u="sng">
                <a:solidFill>
                  <a:srgbClr val="3333cc"/>
                </a:solidFill>
                <a:uFillTx/>
                <a:latin typeface="Tahoma"/>
                <a:hlinkClick r:id="rId7" action="ppaction://hlinksldjump"/>
              </a:rPr>
              <a:t>Косметические средств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c7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09480" y="304920"/>
            <a:ext cx="815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19320" y="380880"/>
            <a:ext cx="48006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376da3"/>
                </a:solidFill>
                <a:latin typeface="Tahoma"/>
              </a:rPr>
              <a:t>Важнейшие средства для ухода за зубами – </a:t>
            </a:r>
            <a:r>
              <a:rPr b="1" i="1" lang="en-US" sz="2500" spc="-1" strike="noStrike" u="sng">
                <a:solidFill>
                  <a:srgbClr val="376da3"/>
                </a:solidFill>
                <a:uFillTx/>
                <a:latin typeface="Tahoma"/>
              </a:rPr>
              <a:t>зубные паст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248520" y="228600"/>
            <a:ext cx="2133360" cy="16002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143000" y="2286000"/>
            <a:ext cx="6934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d4d73"/>
                </a:solidFill>
                <a:uFillTx/>
                <a:latin typeface="Tahoma"/>
              </a:rPr>
              <a:t>Основные компоненты</a:t>
            </a:r>
            <a:r>
              <a:rPr b="0" lang="en-US" sz="2400" spc="-1" strike="noStrike">
                <a:solidFill>
                  <a:srgbClr val="4d4d73"/>
                </a:solidFill>
                <a:latin typeface="Tahoma"/>
              </a:rPr>
              <a:t>: абразивные, связующие, пенообразующие вещества (механическая обработка зубов и полировка) и загустители (превращение смеси абразивных порошков в стойкую пасту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43000" y="4267080"/>
            <a:ext cx="327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Борьба с кариесом осуществляется не только предупреждением образования зубного налета, но и укреплением минеральной ткани зуба, что достигается введением в пасты соединений фт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257800" y="4267080"/>
            <a:ext cx="3063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риятный вкус и запах пасты создают различные компоненты и отдушки (ментол, мятные масла, гвоздичное масло, эвкалиптол и др.). Сладкий вкус создает сахар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c7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Дезодоранты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 rot="1224000">
            <a:off x="1447560" y="533520"/>
            <a:ext cx="685800" cy="1600200"/>
          </a:xfrm>
          <a:custGeom>
            <a:avLst/>
            <a:gdLst>
              <a:gd name="textAreaLeft" fmla="*/ 91800 w 685800"/>
              <a:gd name="textAreaRight" fmla="*/ 594000 w 685800"/>
              <a:gd name="textAreaTop" fmla="*/ 280080 h 1600200"/>
              <a:gd name="textAreaBottom" fmla="*/ 116028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fde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20368800">
            <a:off x="7086600" y="533520"/>
            <a:ext cx="685800" cy="1600200"/>
          </a:xfrm>
          <a:custGeom>
            <a:avLst/>
            <a:gdLst>
              <a:gd name="textAreaLeft" fmla="*/ 91800 w 685800"/>
              <a:gd name="textAreaRight" fmla="*/ 594000 w 685800"/>
              <a:gd name="textAreaTop" fmla="*/ 280080 h 1600200"/>
              <a:gd name="textAreaBottom" fmla="*/ 11602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fde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114300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редства, устраняющие неприятный запах п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371600" y="2209680"/>
            <a:ext cx="3139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73"/>
                </a:solidFill>
                <a:latin typeface="Tahoma"/>
              </a:rPr>
              <a:t>Одни тормозят разложение выводимых с потом продуктов метаболизма(делая неактивными микроорганизмы) или предотвращают их окисл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57800" y="2209680"/>
            <a:ext cx="3429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73"/>
                </a:solidFill>
                <a:latin typeface="Tahoma"/>
              </a:rPr>
              <a:t>Другие частично подавляют выделение пота. В них вещества взаимодействуют с компонентами пота, образуя нерастворимые соединения, закупоривающие каналы потовых желез и тем самым уменьшая потоотдел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23880" y="4648320"/>
            <a:ext cx="7162920" cy="825480"/>
          </a:xfrm>
          <a:prstGeom prst="rect">
            <a:avLst/>
          </a:prstGeom>
          <a:noFill/>
          <a:ln w="22320">
            <a:solidFill>
              <a:srgbClr val="3521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Дезодоранты выпускают в твердом виде, шариковые и в аэрозольной упаков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057400" y="5638680"/>
            <a:ext cx="1066680" cy="10670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733920" y="5638680"/>
            <a:ext cx="1066680" cy="10670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5410080" y="5638680"/>
            <a:ext cx="1123920" cy="10670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086600" y="5638680"/>
            <a:ext cx="106668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c7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Косметические средства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685440"/>
            <a:ext cx="7391520" cy="114300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В далеком прошлом в качестве косметических средств использовали лишь природные вещества. С развитием химии, помимо природных веществ стали использовать и синтетически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5105520" y="1981080"/>
            <a:ext cx="40384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ерламутровый эффект создают соли висмута, слюда (40% оксида титан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533412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Осветление волос производится с помощью 3%-го раствора пероксида водо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5254560"/>
            <a:ext cx="44197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 качестве красителя для волос используют разбавленные растворы солей свинца, серебра, меди и висму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28600" y="198108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Основа лаков для ногтей-раствор нитроцеллюлозы в органич. растворител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666880" y="3048120"/>
            <a:ext cx="3810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Косметические пудры состоят из: талька, каолина, стеаратов цинка и магния, высшего сорта рисового крахмала, оксидов цинка и титана, а также органич. и неорганич. пигмен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3124080"/>
            <a:ext cx="2990880" cy="19861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6400800" y="3124080"/>
            <a:ext cx="274320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c7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Выводы: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90360" y="23623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Химия дает в руки человеку огромные возможности и силы, помогает ему в различных сферах, в том числе и в повседневной жизни, в быту. Но при этом химия требует грамотного использования и ответственност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c7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Информационные материалы: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чебник химии 11 класс. Дрофа. Москва 2004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Химия. Справочник школьника. Филологическое общество «Слово». Москва 1995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c7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914400" y="457200"/>
            <a:ext cx="7718400" cy="3141360"/>
            <a:chOff x="914400" y="457200"/>
            <a:chExt cx="7718400" cy="3141360"/>
          </a:xfrm>
        </p:grpSpPr>
        <p:sp>
          <p:nvSpPr>
            <p:cNvPr id="120" name=""/>
            <p:cNvSpPr/>
            <p:nvPr/>
          </p:nvSpPr>
          <p:spPr>
            <a:xfrm>
              <a:off x="914400" y="533520"/>
              <a:ext cx="1676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 u="sng">
                  <a:solidFill>
                    <a:srgbClr val="0c3798"/>
                  </a:solidFill>
                  <a:uFillTx/>
                  <a:latin typeface="Taxi"/>
                </a:rPr>
                <a:t>Цель</a:t>
              </a:r>
              <a:r>
                <a:rPr b="1" i="1" lang="en-US" sz="4000" spc="-1" strike="noStrike">
                  <a:solidFill>
                    <a:srgbClr val="0c3798"/>
                  </a:solidFill>
                  <a:latin typeface="Taxi"/>
                </a:rPr>
                <a:t>: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733920" y="457200"/>
              <a:ext cx="4898880" cy="31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c3798"/>
                  </a:solidFill>
                  <a:latin typeface="Taxi"/>
                </a:rPr>
                <a:t>Рассмотреть значение химии в повседневной жизни человека, в  его быту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838080" y="3886200"/>
            <a:ext cx="9144000" cy="2638800"/>
            <a:chOff x="838080" y="3886200"/>
            <a:chExt cx="9144000" cy="2638800"/>
          </a:xfrm>
        </p:grpSpPr>
        <p:sp>
          <p:nvSpPr>
            <p:cNvPr id="123" name=""/>
            <p:cNvSpPr/>
            <p:nvPr/>
          </p:nvSpPr>
          <p:spPr>
            <a:xfrm>
              <a:off x="838080" y="3962520"/>
              <a:ext cx="3047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 u="sng">
                  <a:solidFill>
                    <a:srgbClr val="0c3798"/>
                  </a:solidFill>
                  <a:uFillTx/>
                  <a:latin typeface="Taxi"/>
                </a:rPr>
                <a:t>Гипотеза</a:t>
              </a:r>
              <a:r>
                <a:rPr b="1" i="1" lang="en-US" sz="4000" spc="-1" strike="noStrike">
                  <a:solidFill>
                    <a:srgbClr val="0c3798"/>
                  </a:solidFill>
                  <a:latin typeface="Taxi"/>
                </a:rPr>
                <a:t>: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657240" y="3886200"/>
              <a:ext cx="518184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c3798"/>
                  </a:solidFill>
                  <a:latin typeface="Taxi"/>
                </a:rPr>
                <a:t>«Химия-это смерть, упакованная в банки и коробки»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095880" y="5943600"/>
              <a:ext cx="388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c3798"/>
                  </a:solidFill>
                  <a:latin typeface="Taxi"/>
                </a:rPr>
                <a:t>Айзек Азимо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c7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Моющие и чистящие средства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720" y="2666880"/>
            <a:ext cx="5029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436e"/>
                </a:solidFill>
                <a:latin typeface="Tahoma"/>
              </a:rPr>
              <a:t>Стирка белья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436e"/>
                </a:solidFill>
                <a:latin typeface="Tahoma"/>
              </a:rPr>
              <a:t>Мытьё посуды, стен, полов, сантехники, окон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436e"/>
                </a:solidFill>
                <a:latin typeface="Tahoma"/>
              </a:rPr>
              <a:t>Чистка ковров и мягкой мебел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190512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436e"/>
                </a:solidFill>
                <a:latin typeface="Tahoma"/>
              </a:rPr>
              <a:t>Примен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6324480" y="3200400"/>
            <a:ext cx="22860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c7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762120" y="2286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ahoma"/>
              </a:rPr>
              <a:t>Любое моющее средство обладает двумя функц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380880"/>
            <a:ext cx="685800" cy="2133720"/>
          </a:xfrm>
          <a:custGeom>
            <a:avLst/>
            <a:gdLst>
              <a:gd name="textAreaLeft" fmla="*/ 91800 w 685800"/>
              <a:gd name="textAreaRight" fmla="*/ 594000 w 685800"/>
              <a:gd name="textAreaTop" fmla="*/ 373320 h 2133720"/>
              <a:gd name="textAreaBottom" fmla="*/ 154692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fde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53280" y="457200"/>
            <a:ext cx="609840" cy="2133720"/>
          </a:xfrm>
          <a:custGeom>
            <a:avLst/>
            <a:gdLst>
              <a:gd name="textAreaLeft" fmla="*/ 81720 w 609840"/>
              <a:gd name="textAreaRight" fmla="*/ 528120 w 609840"/>
              <a:gd name="textAreaTop" fmla="*/ 373320 h 2133720"/>
              <a:gd name="textAreaBottom" fmla="*/ 154692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fde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19051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1828800"/>
            <a:ext cx="3429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Способность взаимодействовать с загрязняющим веществом (с жиро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1828800"/>
            <a:ext cx="32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Переводить загрязняющее вещество в воду или водный раств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3962520"/>
            <a:ext cx="7620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19320" y="4191120"/>
            <a:ext cx="7315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95280" y="3962520"/>
            <a:ext cx="6019920" cy="1617480"/>
          </a:xfrm>
          <a:prstGeom prst="rect">
            <a:avLst/>
          </a:prstGeom>
          <a:noFill/>
          <a:ln w="22320">
            <a:solidFill>
              <a:srgbClr val="0c37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Для этого молекула моющего вещества должна иметь гидрофобную и гидрофильную част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400800" y="5029200"/>
            <a:ext cx="1828800" cy="1477800"/>
          </a:xfrm>
          <a:prstGeom prst="rect">
            <a:avLst/>
          </a:prstGeom>
          <a:ln w="22320">
            <a:solidFill>
              <a:srgbClr val="0c379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c7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7720" y="18288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85858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585858"/>
                </a:solidFill>
                <a:latin typeface="Tahoma"/>
              </a:rPr>
              <a:t>Основа СМС - синтетические поверхностно-активные вещества (ПАВ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85858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585858"/>
                </a:solidFill>
                <a:latin typeface="Tahoma"/>
              </a:rPr>
              <a:t>Их производство основано на продуктах переработки нефти, например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838080" y="304920"/>
            <a:ext cx="769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c3798"/>
                </a:solidFill>
                <a:latin typeface="Syntax Black"/>
              </a:rPr>
              <a:t>Синтетические моющие средства (СМС)-детерген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563868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85858"/>
                </a:solidFill>
                <a:latin typeface="Tahoma"/>
              </a:rPr>
              <a:t>Основной компонент многих детергентов - алкилбензолсульфонат натр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143000" y="3962520"/>
            <a:ext cx="800100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c7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7631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85858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295280" y="457200"/>
            <a:ext cx="1371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99"/>
                </a:solidFill>
                <a:latin typeface="Tahoma"/>
              </a:rPr>
              <a:t>+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172200" y="304920"/>
            <a:ext cx="1828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99"/>
                </a:solidFill>
                <a:latin typeface="Tahoma"/>
              </a:rPr>
              <a:t>-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010280" y="304920"/>
            <a:ext cx="2438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99"/>
                </a:solidFill>
                <a:latin typeface="Tahoma"/>
              </a:rPr>
              <a:t>-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1828800"/>
            <a:ext cx="2971800" cy="59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3798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c3798"/>
                </a:solidFill>
                <a:latin typeface="Tahoma"/>
              </a:rPr>
              <a:t>Хорошо моют как в мягкой, так и в жесткой вод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3798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c3798"/>
                </a:solidFill>
                <a:latin typeface="Tahoma"/>
              </a:rPr>
              <a:t>Действуют не только в горячей воде, но также в теплой и холодной вод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3798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c3798"/>
                </a:solidFill>
                <a:latin typeface="Tahoma"/>
              </a:rPr>
              <a:t>Расход по сравнению с расходом мыла гораздо мень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29200" y="1828800"/>
            <a:ext cx="358128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3798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c3798"/>
                </a:solidFill>
                <a:latin typeface="Tahoma"/>
              </a:rPr>
              <a:t>Очень медленно разлагаются и, попадая со сточными водами в водоемы, оказывают вредное воздействие на живые организ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3798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c3798"/>
                </a:solidFill>
                <a:latin typeface="Tahoma"/>
              </a:rPr>
              <a:t>В результате постоянного воздействия может появиться аллергическая реак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8"/>
          <a:stretch/>
        </p:blipFill>
        <p:spPr>
          <a:xfrm>
            <a:off x="3048120" y="152280"/>
            <a:ext cx="32004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c7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85440" y="533160"/>
            <a:ext cx="48769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da3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376da3"/>
                </a:solidFill>
                <a:latin typeface="Tahoma"/>
              </a:rPr>
              <a:t>Кроме ПАВ, в СМС входят: отбеливатели, смягчители, пенообразователи, ароматические отдушк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371600" y="2057400"/>
            <a:ext cx="6781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14400" y="342900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6699"/>
                </a:solidFill>
                <a:uFillTx/>
                <a:latin typeface="Tahoma"/>
              </a:rPr>
              <a:t>Отбеливате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048120" y="4114800"/>
            <a:ext cx="3657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99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666699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666699"/>
                </a:solidFill>
                <a:latin typeface="Tahoma"/>
              </a:rPr>
              <a:t>Опт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666699"/>
                </a:solidFill>
                <a:latin typeface="Tahoma"/>
              </a:rPr>
              <a:t>Хим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5486400" y="457200"/>
            <a:ext cx="3352680" cy="24382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049760" y="5410080"/>
            <a:ext cx="30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Tahoma"/>
              </a:rPr>
              <a:t>Кислородосодержа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105800" y="541008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Tahoma"/>
              </a:rPr>
              <a:t>Хлорсодержа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68480" y="54100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Tahoma"/>
              </a:rPr>
              <a:t>C</a:t>
            </a:r>
            <a:r>
              <a:rPr b="1" lang="ru-RU" sz="1800" spc="-1" strike="noStrike">
                <a:solidFill>
                  <a:srgbClr val="666699"/>
                </a:solidFill>
                <a:latin typeface="Tahoma"/>
              </a:rPr>
              <a:t>еросодержа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2514600" y="5029200"/>
            <a:ext cx="990720" cy="304920"/>
          </a:xfrm>
          <a:prstGeom prst="line">
            <a:avLst/>
          </a:prstGeom>
          <a:ln w="5076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562720" y="5029200"/>
            <a:ext cx="1143000" cy="304920"/>
          </a:xfrm>
          <a:prstGeom prst="line">
            <a:avLst/>
          </a:prstGeom>
          <a:ln w="5076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029200"/>
            <a:ext cx="0" cy="304920"/>
          </a:xfrm>
          <a:prstGeom prst="line">
            <a:avLst/>
          </a:prstGeom>
          <a:ln w="5076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c7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Средства для борьбы с бытовыми насекомыми - инсектициды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320" y="21333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ahoma"/>
              </a:rPr>
              <a:t>   </a:t>
            </a:r>
            <a:r>
              <a:rPr b="0" i="1" lang="en-US" sz="2800" spc="-1" strike="noStrike" u="sng">
                <a:solidFill>
                  <a:srgbClr val="666699"/>
                </a:solidFill>
                <a:uFillTx/>
                <a:latin typeface="Tahoma"/>
              </a:rPr>
              <a:t>Применяют в виде</a:t>
            </a:r>
            <a:r>
              <a:rPr b="0" i="1" lang="en-US" sz="2800" spc="-1" strike="noStrike">
                <a:solidFill>
                  <a:srgbClr val="666699"/>
                </a:solidFill>
                <a:latin typeface="Tahoma"/>
              </a:rPr>
              <a:t>:</a:t>
            </a:r>
            <a:r>
              <a:rPr b="0" lang="en-US" sz="2800" spc="-1" strike="noStrike">
                <a:solidFill>
                  <a:srgbClr val="666699"/>
                </a:solidFill>
                <a:latin typeface="Tahoma"/>
              </a:rPr>
              <a:t> растворов, эмульсий, аэрозолей, суспензи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1143000" y="3886200"/>
            <a:ext cx="6934320" cy="137376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4d4d73"/>
                </a:solidFill>
                <a:uFillTx/>
                <a:latin typeface="Tahoma"/>
              </a:rPr>
              <a:t>Препараты для обработки жилых помещений</a:t>
            </a:r>
            <a:r>
              <a:rPr b="1" i="1" lang="en-US" sz="2800" spc="-1" strike="noStrike">
                <a:solidFill>
                  <a:srgbClr val="4d4d73"/>
                </a:solidFill>
                <a:latin typeface="Tahoma"/>
              </a:rPr>
              <a:t>:</a:t>
            </a:r>
            <a:r>
              <a:rPr b="1" lang="en-US" sz="2800" spc="-1" strike="noStrike">
                <a:solidFill>
                  <a:srgbClr val="4d4d73"/>
                </a:solidFill>
                <a:latin typeface="Tahoma"/>
              </a:rPr>
              <a:t> хлорофос, дихлофос, хлорофосные карандаш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858000" y="5029200"/>
            <a:ext cx="1428840" cy="1428840"/>
          </a:xfrm>
          <a:prstGeom prst="rect">
            <a:avLst/>
          </a:prstGeom>
          <a:ln w="2232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c7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914040" y="1066320"/>
            <a:ext cx="7543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da3"/>
                </a:solidFill>
                <a:latin typeface="Tahoma"/>
              </a:rPr>
              <a:t>Не применять часто и в больших количествах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da3"/>
                </a:solidFill>
                <a:latin typeface="Tahoma"/>
              </a:rPr>
              <a:t>Нельзя принимать пищу, пить воду, курить во время обработк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da3"/>
                </a:solidFill>
                <a:latin typeface="Tahoma"/>
              </a:rPr>
              <a:t>Окна должны быть открыты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da3"/>
                </a:solidFill>
                <a:latin typeface="Tahoma"/>
              </a:rPr>
              <a:t>Необходимо убрать все продукты и посуду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da3"/>
                </a:solidFill>
                <a:latin typeface="Tahoma"/>
              </a:rPr>
              <a:t>После обработки вымыть руки теплой водой с мылом и прополоскать рот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990720" y="38088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ekton"/>
              </a:rPr>
              <a:t>Меры предосторожност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5029200"/>
            <a:ext cx="533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376da3"/>
                </a:solidFill>
                <a:latin typeface="Tahoma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54100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d4d73"/>
                </a:solidFill>
                <a:latin typeface="Tahoma"/>
              </a:rPr>
              <a:t>Инсектициды обладают аллергенным действие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hulyak</cp:lastModifiedBy>
  <dcterms:modified xsi:type="dcterms:W3CDTF">2007-09-12T07:35:25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